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21E-8EAA-40DF-B1C7-F9C7D6A7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D5E-B598-4C59-847E-D0BD5CE5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BDD4C-9611-499D-AD09-DE9F8850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0C3B-1148-4C23-8E9C-8F17BB19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F37DB-47F7-4AA7-A99F-E02B4D59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BB5A-6EA9-4B08-9F6A-7810454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BD2E-B00F-4715-9D5E-4EDAF95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573A1-207D-4A51-905B-7C7FDB7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D3CED-9818-469E-825F-197DF715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BBB7A-1F63-4ADB-9021-473C6D18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1890-2232-424F-9608-6AA3825E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8A969-017A-4623-AEF0-6AFADBF4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FE1-79A9-414D-B53B-CBC017C2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36EE5-37EE-4484-9FCD-1366D9F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56D1-048B-40AB-9FA6-F60F17C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AA94C-F8A9-4449-AEB1-7C56798E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2D556-880E-49C2-BE27-8151DEC6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B8D68-B4A6-4CC1-B119-7AA80402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59E48-944E-4FFA-861D-77F486F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BF6F5-778D-4AFF-B7DF-014D63B2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C0A3-E6EC-49C4-B512-D329442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A674-9C01-46E9-8702-E843AEF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7A05B-2FC2-4269-8435-AA21B9E5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083-7CBA-4F00-8BEE-93387867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2E775-D85B-470E-878F-7397EBC3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D3A70-21C1-4731-9AE0-13E1E0EC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1B367-EAB2-44DE-A8F8-6EEA6BF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2E73E-F3A8-45B9-9E67-64B37371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A59B4-50F1-41A8-A7D4-F4FBCA69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03B80-8C69-4CDC-9E17-AC9639B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405C7-75F7-40C6-9AF6-5635451C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A1BBC-793D-4392-8A63-42C8945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851C2-6DBD-4B85-BC9C-D782D3F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F3E15-7CF7-4F11-B327-DC86EE3E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399-679D-4BA7-A81D-1A746CA3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81F9B-F5F1-4F44-ABED-EEE663A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66FE0-1B1B-4D3F-8C36-AAC3F3AA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4F06B-D080-43CD-9EB9-E1C8F343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D0AF7-B65B-4E0E-A6C0-4E34FED0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07576-3E8D-4478-8D4F-3B9F991C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B5ACC-B7B6-433C-9B3B-11ED663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12889-8A7E-4104-8F98-470BCC5B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63856-A54F-4243-BE56-676CC7C5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E4EB4-7DC6-4663-9109-20B66F2A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0A776-AE96-4C07-B387-B1448D8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FA1-1755-48B9-89C9-086D3B6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501A5-EB47-4754-BFE2-3F008D4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0A15F-04C8-4FE4-8211-4113BFD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47CD8-AB6C-4D84-9322-EF6DB75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A916A-F0A7-4E7B-B89A-D998ACCE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36A2F-06D1-4611-81A2-B3E3B4BB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2F969-CE4C-4422-BD71-DA7EC217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BB0D0-EABA-48D1-A6F2-7B213084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A73A0-01A5-4138-B5E5-C51CFC9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5EF53-B69A-470C-B7ED-993B4D1D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4C60B-F5A9-49F0-9C6D-055AC176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06F6-0183-4B1A-A875-B8383333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120AE-D058-4517-B58A-024D9D1B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00773-EF82-46C9-9A53-CEF5BDEF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22255-8FB9-41CA-B34E-595B89F2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2A493-8B97-4E35-A1A7-4043E96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4E8D5-D237-4A73-A579-74E60A6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7C3A3-3263-4910-A452-605684FE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23F47-7386-4A72-A53F-29E31F22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C8089-55AC-4EDE-B634-D93B24B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8A9D4-666B-4054-9CE8-7B3A3AE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3C8F1-390C-4875-81BE-BB30973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A5C8-3EEE-4253-9283-27467CE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6996B-2ABA-4647-8A56-68E4FD06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AFDC5-E21B-40D5-BD07-79EC1235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AC8F5-77C6-47FE-B7CD-CF15F44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17030-C9FC-49FC-8F08-6CE7237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EB80B-5622-43CB-9DFD-834F722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9948D-8384-4660-8801-CE82064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337F2-BD7F-45BA-B563-CD44A39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67BAB-8857-4AED-8482-74454FA4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49ADA-6354-4BA9-8071-4C5EF961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16E5A-8812-4641-846D-F0E82172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746A-D877-4030-982C-6C6FE79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6404D-81C5-4BB4-A429-7CCCD9B5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C5EDE-E965-45B4-A018-AC53744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E1FB3-9FC0-4DC3-86E8-62DACE24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2E5A5-C63D-42A4-A0BD-8454CA6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67E3E-5F3B-444C-B091-1E8121D3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0EBBD-A24E-447F-9FEB-875C5A6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987D2-B598-4A70-AD5F-9521E61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2E1F7-6C48-41AD-9FAB-0D34F44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473BE-0EB0-4775-97B9-A760D59B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4C16A-14A2-47CB-AB00-154E8990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C0B-9BB1-4B39-ACB6-EC45437C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F8331-D72E-4BBA-B209-C655C926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CCC61-1AC7-49B2-975E-59C0CFD3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B6666-DD24-49F3-A3DA-F1E0CDAA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4DEB0-E131-4DDA-97F5-B4A3563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51013-53D9-425D-B889-6B8768FA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6BA3D-F64D-442E-BC9A-6AD443D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069FA-B5A8-43CC-B58C-3ED6B597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E738F-7F29-4D0D-A00A-2F03C3C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6BE7C-2CAD-47E9-8DCD-9944244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6AAA2-6F9A-47BD-9170-C55B849F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D1D-D387-45EA-A9BE-DB96DB0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5ADF7-296E-48A2-89C7-4434756F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9B477-FA11-47BF-9F2E-C94B44C7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AA098-EECC-4B69-B3FB-B8FC5E2F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653B1-6E97-4EC6-9B00-196D516D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79B8C-922D-46B5-A170-0381C46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7BEE5-B483-4E82-BF0C-52140C2D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5B150-7A45-4224-BE9D-4DCED8F9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D3303-D82C-44CC-9562-7682F9CE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FD3932-EE23-47E1-8489-8D3E01D7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3A984-4E92-4D5A-B5A0-21B5449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610-2D6D-452F-AE40-3BA92F72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CA0E-503E-493C-A1C7-E65163F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EFEC4-3A06-4006-9143-8AA1351B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852A5-D025-4F16-865F-E316B2D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A6F1F-6ED4-486E-80F0-9804F912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2D697-030C-4389-BFAA-46F99A16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C9751-BA80-4A2F-85A5-CB1705D9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411C9-E0DC-43DD-B3C9-E86DF9C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95C598-018F-498F-B484-DF060BC7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C3EEA-9436-4F69-9C1C-ABF720EF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8534E-8AAD-4738-8C0E-A07ACEB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272A1-907D-4775-8F08-5813A4D8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0A11-EFA8-4C40-9A00-476A92A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7883A-50B0-45EF-950A-47C3996B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865D8-A532-469D-9EC8-5CEF73D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453BC-028F-417B-B30D-C336F82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2A665-0F2E-461F-B4B1-FF7E923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14AE9-D0BA-42E7-A7E2-B170F1D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FC380-689F-4E9D-8F79-39611984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45CFF-6E6B-4AA8-A33A-83645410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CDCEF-A853-4F2C-9DDA-F55CC1A7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C5734-AF7B-402A-95D2-3139CC58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A02E5-6532-49AB-A543-8A0F0DD1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3F1E-BA2D-4FAD-A947-BBB6A5C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02E435-D858-4427-AB12-8963043D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E4E10-A596-47CC-8A10-125DB31B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27CCE-A513-465F-8189-6AA2BC28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46673-BCB3-4D68-AC87-6AFC6A7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59FCD-374B-49EE-A6D5-5F90267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9FF36-739E-40F9-9A25-220E8AA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575B3-E1AB-4684-ACDC-7197BC2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66767-8112-4411-BFD4-AA46C205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8E4A6-B570-4398-B82C-72FB71D6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F0404-6700-4130-A7EF-F92BBFF8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B575-1245-4D36-A69B-6A8FBED3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7C0F5-96B0-4822-B6FB-1874439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07D1C-A5BE-402D-BF41-E097BFE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F1D1A-EF1B-44B4-A263-CC654B39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201F0-02DF-4E24-9801-3E40AAD2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A3EDB-1117-4B91-8D9E-C73EDB1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7D947-9A20-4701-9CD5-7CC93F3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45D9F-2734-4A9B-BBF6-C78B003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EF98B-E35A-4771-AAA6-10B21B7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788EE-E168-4397-8974-5C2A34F4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1F5EB-6916-48F5-8660-E2360550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4495-1751-4709-9E1B-013714B8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DFE80-C031-47D2-A299-D4EE9033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A55F3-BC2A-4860-A110-DEC0D952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7FE5F-F365-4375-8FD0-AD8CD73D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72407-9D61-418E-ACBE-6F39E7AA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71B72-106E-458E-84DD-B2027F5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30848-FF19-406E-9F6C-DEC57A40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F26CB-5812-4EA0-8D11-ECC9D1D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082A4E-644D-4C05-8A54-22B6739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AC6D6-32E9-4A78-A217-0398693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F2DB7-12C3-4CAF-ACEE-FDC4AD2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A13D-863D-470B-A9C5-2CB4B0E6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DACDC5-7CB6-4D3A-AD58-96DFB95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E0E4D-8F56-4560-8923-C50A3FFA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79DA1-24E2-43BD-9589-3842FB43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D88E-6145-4BAF-B211-365989A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A3A7-B1A5-4293-A36C-4EE79A3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DEF5-C45A-470E-8750-52BA1EA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9B6C-5554-4B83-A783-A1F116D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63E-C307-40A9-AF68-73FB5753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E57E-9EB3-4F98-913E-5F6C0D84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74C3-8CBB-4192-A652-A7D43E1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EE46-6AAD-4ECF-ADDC-F2EF6B8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94D2-B59E-4893-BF01-C9A1BA3E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1E87-92FC-46CF-8AA0-74CA462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0E39-0951-48B8-A5CB-E663F44F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273A-8FB0-454C-A4C5-0A300774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08BB-2D1B-4574-9F71-43B6A67C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77B3-8348-4F73-BDDD-F9177C04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606D-6AB1-46CA-86F9-FA54CC5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5D6-193A-4DC2-94C6-8717D3E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E2FB-C835-4D2E-969B-749A3D4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ED46-281C-4776-822B-BAE440C6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7664-A326-4FC9-AD1E-03E9B1B5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E528-C1CC-4186-9974-FA1110C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6197-BEAE-45BB-A312-9B2317C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9504-56DB-4841-8FAB-CFB6C0A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D690-EF8E-42A8-9E6E-51840DB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0EEC-7BB6-4C3A-9CFF-A8B95FFC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98FE-8E01-420A-8156-86E0E5DA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E5FE-FB17-48F8-8441-3E80384A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C01-3B69-406B-88B7-D101487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63EA-56E4-4A87-8500-2D66786D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7BD6-7838-4A54-A0BE-D44985DA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C2CF-14E6-465F-8E0D-ABEDB04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AB5B1-4849-409A-BC39-7B94865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A157-BA0C-4BDC-A323-3CC846E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41100-5AB7-41BC-B2A7-35496F1D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565B-89CA-46AD-AB7C-7D009FB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F054-F5DD-4B65-8126-1410CCA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F5C5-1AC1-434A-9A77-3A29B42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8ABA-A58D-496B-97DD-25437D05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3DC-0A39-44E9-9B5C-566C5638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8887C-A4F5-4F5B-B3A4-87B57874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CE09-9CE6-4E0F-BAD2-D754B5D0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9B86-ABB3-457E-B67F-3E44F8C1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3214-D646-4671-884F-066128FC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033C-0302-4EC6-80B7-9FCDA99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FC7C-431B-4FAE-BBD4-8145934A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312F-78A9-4FE7-835F-A750AA1E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C96B-34DC-4B72-AF13-914F79D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B91A8-11F0-4747-B633-6FA5CE1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0C40B-708A-4A58-BD8F-CC68EFA6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E23-C55D-44A7-B6C1-F664012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1B25-D4AE-45A2-9EB6-EF6A9C6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B9DC3-B7C0-4651-94E1-032B9303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CC23-1350-4DAD-84D7-F8ADC9EC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CFBC-C562-4F19-A3CE-3EB46EEB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B3BE-EA31-4355-B469-30B2B22B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B891-373A-43D3-8ED0-8889F088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78C6-70C5-41D4-B47E-7F4F5B2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A45A-4334-4103-929E-58A9195F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29D6-FADA-4BB6-8429-1210761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9EC0-A196-4011-8A9C-4D8B2A7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031-2D54-46BB-982C-25E722D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12513-8631-4F80-BA39-DE3F4A2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3C13-35D2-4AE1-8F36-C1DA4CC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02D37-41F1-49EC-8B35-AE934EE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9900-35F0-478E-98A4-B9DC081A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5CD50-2187-46D8-8E6F-3F99C399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EA824-26BC-4421-BFEF-C47AF828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3D31-A716-4F94-BBFF-9083218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1C37-739E-4F50-A8BA-A39A67BB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F146-2F81-4CBA-A355-5E077F0C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708A-A6A6-452F-A2B2-8E3E6B5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483-8482-432C-A8B6-5964EA6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41FF-2813-4203-82E0-D381A2AB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431F4-9BC0-4474-9FCE-829B816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C8DE-E0F7-4305-A815-F825CFE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94DE-80BA-4064-97DE-428E2AF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13A6-B828-4836-B582-EF04853B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4D25-EA1B-4BB1-A92A-580A1B81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E0D18-FA24-4081-BDAC-AE461AF9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711A-3271-4C56-8078-10326EED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F0083-40D7-45B6-BD11-955351B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00400-3BF2-45B0-B32F-C9172CE0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06B-131D-4ED0-9B2E-4EF51F331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BDA-3A8A-4574-9C6E-77D969D2F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80FF-4993-4DEE-B4A0-5EDA8F5E6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A5A-889D-4C27-853D-20DF7D4DD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62E-9209-4CD8-ABED-B61BA9D5A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B380-FF0D-40CD-AADD-EC44ED99D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D42F-E504-4EDF-AAC7-732DB6B6C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774C-DCBF-4D84-8EC4-D0A78BED8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1EF8-E6F3-4559-A837-90EF4B296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4D2-2485-4B2B-8538-047C1195B0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CE6-322D-4A6A-A384-4374FF8F1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C1B-F7FC-43D1-B1B3-C9F0BF067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D32-8D4D-4A21-897C-CD0D89BA8D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1F0-1CE6-4F5D-9B77-ACBB73AFD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67B-4AE4-43AB-BFAE-E36D5D01C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1C6-59AD-4F14-AC6C-C81137614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DF64-CFC4-4095-9D4C-A4256EA24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7596-DE45-4CCD-BA9B-550B1759F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522F-8606-4A44-9268-F75D7E73B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1DD-9262-4780-9D95-DAEF30854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D107-73A6-4235-A205-EBA8F4D69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67A-EDE1-4610-AB3C-E3F977392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D73-CC97-4BED-9FC0-66757970EC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01C-FCE3-4FB5-879D-3D54D4761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4243-CAB1-47D0-A6EC-679431B02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46F1-A708-4045-B4F9-2FC2E2BEF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95E8-8A60-4B39-B92E-1DBF92571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E0C7-5170-429B-8B7B-38ECDA754D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F1F-9385-498D-A7C0-63B690146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4EE-0C47-4FA0-8439-74429DB0DB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D8B1-F9BB-4864-92A3-382E2F69C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972-F496-4362-BD4A-CC26EEF5A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55D8-B839-4374-A94E-47C05CB05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FADE-80CB-4E3D-856C-E055C4976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456-9C7F-4CDA-AA22-822F1D8CC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84B-80EF-45EA-BF98-E4390F1F42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4E1F-8700-49AE-810B-61C2DA3BD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A55-D61E-48BD-819F-3A9D59EAA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BDB1-EA85-4D5F-BEFF-F2E501E6F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0274-24E5-400C-B5EA-CC593F34D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05000" y="2747880"/>
            <a:ext cx="6534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843120"/>
            <a:ext cx="8886960" cy="517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164360" y="1925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8388360" y="1935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403280" y="22766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843360" y="25988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724360" y="25988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812000" y="2608200"/>
            <a:ext cx="35892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708360" y="2943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580000" y="2943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686720" y="294336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46000" y="405756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26920" y="437508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813120" y="401472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822840" y="437508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804000" y="403380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804000" y="4365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36640" y="5373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836640" y="572436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3822840" y="5373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3832200" y="571500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794640" y="5373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6794640" y="5705640"/>
            <a:ext cx="1143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195120" y="750960"/>
            <a:ext cx="8753760" cy="5991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936800" y="1287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087720" y="1306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936800" y="1735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087720" y="1754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1946160" y="21859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309708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5951520" y="12938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7102440" y="1312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5951520" y="17445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7102440" y="176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5961240" y="21765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7112160" y="2195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1230480" y="4662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2195640" y="4005360"/>
            <a:ext cx="129672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2124000" y="4356000"/>
            <a:ext cx="129708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5076720" y="4662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8"/>
          <a:stretch/>
        </p:blipFill>
        <p:spPr>
          <a:xfrm>
            <a:off x="5940360" y="4005360"/>
            <a:ext cx="129708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9"/>
          <a:stretch/>
        </p:blipFill>
        <p:spPr>
          <a:xfrm>
            <a:off x="5940360" y="4356000"/>
            <a:ext cx="1297080" cy="257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0"/>
          <a:stretch/>
        </p:blipFill>
        <p:spPr>
          <a:xfrm>
            <a:off x="755640" y="5425920"/>
            <a:ext cx="208764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1"/>
          <a:stretch/>
        </p:blipFill>
        <p:spPr>
          <a:xfrm>
            <a:off x="539640" y="5776920"/>
            <a:ext cx="20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2"/>
          <a:stretch/>
        </p:blipFill>
        <p:spPr>
          <a:xfrm>
            <a:off x="573120" y="6102360"/>
            <a:ext cx="20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3"/>
          <a:stretch/>
        </p:blipFill>
        <p:spPr>
          <a:xfrm>
            <a:off x="468360" y="6419880"/>
            <a:ext cx="338292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4"/>
          <a:stretch/>
        </p:blipFill>
        <p:spPr>
          <a:xfrm>
            <a:off x="8379000" y="3348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5"/>
          <a:stretch/>
        </p:blipFill>
        <p:spPr>
          <a:xfrm>
            <a:off x="8485200" y="3760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6"/>
          <a:stretch/>
        </p:blipFill>
        <p:spPr>
          <a:xfrm>
            <a:off x="8478720" y="414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7"/>
          <a:stretch/>
        </p:blipFill>
        <p:spPr>
          <a:xfrm>
            <a:off x="8478720" y="4581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8"/>
          <a:stretch/>
        </p:blipFill>
        <p:spPr>
          <a:xfrm>
            <a:off x="8469360" y="4970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9"/>
          <a:stretch/>
        </p:blipFill>
        <p:spPr>
          <a:xfrm>
            <a:off x="8478720" y="539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0"/>
          <a:stretch/>
        </p:blipFill>
        <p:spPr>
          <a:xfrm>
            <a:off x="8478720" y="5805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1"/>
          <a:stretch/>
        </p:blipFill>
        <p:spPr>
          <a:xfrm>
            <a:off x="8488440" y="620388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2:5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